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F0428-5599-4E9A-AB31-461BBA6CD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B92CA-1A18-4710-839A-390D727C1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25DD2-A242-47EB-BA4D-A797276E2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82363-673A-4846-A581-19B39BE64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34D6F-0E11-4C32-97F6-1B89B368E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288EE-F472-482B-B527-66BE869B3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FF457-B00F-48BF-A07E-02B01D6A9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E3978-731D-4CB6-85D1-ECE6DBD9F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6B080-7D4C-4D55-A3D1-CAFE0CE8A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3A357-943F-4F3F-BAAA-C8DDC088A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A4B12-8900-4B96-BF23-F3801A824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612DD-00A2-4FAA-A608-5C397ABCD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BB534-3C28-4AE6-9721-F11FEC43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3A23E-D451-4718-AC0B-DEFF13690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EA27A-3BF0-4CE6-B2F0-AADE88540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6506F-B9FB-4144-AD30-38AA78AC2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598E9-C7D1-429F-A4AA-5C17AD04D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D60DF0-2EDA-4DB0-98A4-8B97658F7E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8"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212BC-BA2E-41C6-87BF-D66B7A86EA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A8B0B-F614-4709-8ABC-63C6A4C2E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2"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83768B-BF94-4643-8B7C-715112767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75546-889E-4EC0-84C0-42DCC9D61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07217-EB13-4710-A908-21CCE1EF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777550-D8FD-4A6A-9F24-6F40DB745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451F4-32F3-4478-BD49-520DC2E07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EBD3A-72F5-4813-9831-C9C91E301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6"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0175B-C152-4F52-AEE2-B1198169C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9"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0"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D0468-F801-4EFB-83CA-CC6A72153D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2"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3"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4"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5"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7DDF8F-508B-424C-A65B-CD81249710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7"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0"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2"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606DBF-6C3E-4D2B-A16C-77AB37B675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A318AA-076A-4703-B460-7D27442B0B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28"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DC214-03F7-4DCD-B445-21CC44E45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6B011-7BD4-439A-A6D2-E5243C59A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FAF37-2F4D-4121-8170-A4243677B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2"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3"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1DC8B-4D57-431B-87BA-0E714F5C6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C6A90-6C63-44C4-A292-95697A67BE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1490D-8E76-4DB3-A4D1-60DE2906B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7"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9"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19CAD-0265-434A-8841-F48DCC9B0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AD607-BC68-4DAD-8663-7BDC0CF75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6A9D9-A8C7-42F6-8248-8D54D2985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9"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75FF97-089E-4249-8C16-B9D98EF22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2"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3"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4"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BA7787-4702-4B89-8E44-0D647DE9F5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7"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9"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2"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D48F39-6635-4E50-BEA7-A3F0D9525A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7B7DC-D11D-4377-A97B-6D0C1EA25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ED4A-8016-4DF9-9CC4-DBB1B067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97B51-0951-48CB-869F-DCB28D63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A63A-05B9-4D67-ADA0-2ED43605C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5E82D-4E49-4ABE-94E5-A76524EA6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2045-D035-47A6-BBB3-803483041034}"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160C-6BAA-4105-96A1-C2C9573992C7}"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83"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C64A-5702-4A27-8C1A-C54670242AD1}" type="slidenum">
              <a:rPr b="0" lang="en-US" sz="1400" spc="-1" strike="noStrike">
                <a:solidFill>
                  <a:srgbClr val="ffffff"/>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4"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334E-A82A-44F1-A6E5-9BDD58DB4A3E}" type="slidenum">
              <a:rPr b="0" lang="en-US" sz="1400" spc="-1" strike="noStrike">
                <a:solidFill>
                  <a:srgbClr val="ffffff"/>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ivilization!!!</a:t>
            </a:r>
            <a:endParaRPr b="0" lang="en-US" sz="4400" spc="-1" strike="noStrike">
              <a:solidFill>
                <a:srgbClr val="ffffff"/>
              </a:solidFill>
              <a:latin typeface="Comic Sans MS"/>
            </a:endParaRPr>
          </a:p>
        </p:txBody>
      </p:sp>
      <p:sp>
        <p:nvSpPr>
          <p:cNvPr id="164"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did we get here?  How do we know it exist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09480" y="4572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umber 3</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Permanent cities and homes - people stayed in one place.</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These homes were always near WATER!</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y do you think they were near water?</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is very important because now people stayed in one place.  If we look at signs 1, 2, and 3 we see that people are now able to get food, water, and shelter.</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09480" y="4572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1000"/>
          </a:bodyPr>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4</a:t>
            </a:r>
            <a:endParaRPr b="0" lang="en-US" sz="3200" spc="-1" strike="noStrike">
              <a:solidFill>
                <a:srgbClr val="000000"/>
              </a:solidFill>
              <a:latin typeface="Trebuchet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Economic Achievements - Trading, money, barter.</a:t>
            </a:r>
            <a:endParaRPr b="0" lang="en-US" sz="3200" spc="-1" strike="noStrike">
              <a:solidFill>
                <a:srgbClr val="000000"/>
              </a:solidFill>
              <a:latin typeface="Trebuchet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was so important because people could trade or exchange goods for things that they did not have.  At first, people did this to help meet their basic needs but as civilizations developed people increasingly traded in order to get materials they wanted!</a:t>
            </a:r>
            <a:endParaRPr b="0" lang="en-US" sz="32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09480" y="4572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8000"/>
          </a:bodyPr>
          <a:p>
            <a:pPr marL="267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5</a:t>
            </a:r>
            <a:endParaRPr b="0" lang="en-US" sz="3200" spc="-1" strike="noStrike">
              <a:solidFill>
                <a:srgbClr val="000000"/>
              </a:solidFill>
              <a:latin typeface="Trebuchet MS"/>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High Levels of Art: People created statues, sculptures and jewelry.</a:t>
            </a:r>
            <a:endParaRPr b="0" lang="en-US" sz="3600" spc="-1" strike="noStrike">
              <a:solidFill>
                <a:srgbClr val="000000"/>
              </a:solidFill>
              <a:latin typeface="Trebuchet MS"/>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eople are no longer just making things to survive, they are now making things that they think are appealing to look at, things that they want, and things that represent their society.</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09480" y="2286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6</a:t>
            </a:r>
            <a:endParaRPr b="0" lang="en-US" sz="3200" spc="-1" strike="noStrike">
              <a:solidFill>
                <a:srgbClr val="000000"/>
              </a:solidFill>
              <a:latin typeface="Trebuchet MS"/>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84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Highly Organized Society: People created governments, rules, laws, and specialization.</a:t>
            </a:r>
            <a:endParaRPr b="0" lang="en-US" sz="3600" spc="-1" strike="noStrike">
              <a:solidFill>
                <a:srgbClr val="000000"/>
              </a:solidFill>
              <a:latin typeface="Trebuchet MS"/>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nk of what our world would be like with no rules or laws!  It would be hard to imagine!  When a society has rules and laws it can function better.  In order to create rules and laws and have people buy in or listen to them, you need to have some form of government.  </a:t>
            </a:r>
            <a:endParaRPr b="0" lang="en-US" sz="2000" spc="-1" strike="noStrike">
              <a:solidFill>
                <a:srgbClr val="000000"/>
              </a:solidFill>
              <a:latin typeface="Trebuchet MS"/>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pecialization was also developing.  This means that people no longer all did the same jobs, but that each person was a SPECIALIST in ONE job.  As a SOCIETY they shared their creations.</a:t>
            </a:r>
            <a:endParaRPr b="0" lang="en-US" sz="2000" spc="-1" strike="noStrike">
              <a:solidFill>
                <a:srgbClr val="000000"/>
              </a:solidFill>
              <a:latin typeface="Trebuchet MS"/>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09480" y="2286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1000"/>
          </a:bodyPr>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7</a:t>
            </a:r>
            <a:endParaRPr b="0" lang="en-US" sz="32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Intellectual Achievements: People have the ability to write and communicate, keep records, and have created calendars.</a:t>
            </a:r>
            <a:endParaRPr b="0" lang="en-US" sz="3600" spc="-1" strike="noStrike">
              <a:solidFill>
                <a:srgbClr val="000000"/>
              </a:solidFill>
              <a:latin typeface="Trebuchet MS"/>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riting helped to keep track of trade and business deals.</a:t>
            </a: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ople have increased communication between themselves and others.  This encouraged a sharing of ideas and a better development of culture.</a:t>
            </a: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09480" y="2286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8</a:t>
            </a:r>
            <a:endParaRPr b="0" lang="en-US" sz="3200" spc="-1" strike="noStrike">
              <a:solidFill>
                <a:srgbClr val="000000"/>
              </a:solidFill>
              <a:latin typeface="Trebuchet MS"/>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Advances in Technology</a:t>
            </a: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ew advancements were made like:</a:t>
            </a: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The wheel, metal, irrigation, cars</a:t>
            </a: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y do you think advancements in technology are so important?</a:t>
            </a: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re we still making more advancements today?</a:t>
            </a:r>
            <a:endParaRPr b="0" lang="en-US" sz="3600" spc="-1" strike="noStrike">
              <a:solidFill>
                <a:srgbClr val="000000"/>
              </a:solidFill>
              <a:latin typeface="Trebuchet MS"/>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as your plant a CIVILIZATION?</a:t>
            </a:r>
            <a:endParaRPr b="0" lang="en-US" sz="4000" spc="-1" strike="noStrike">
              <a:solidFill>
                <a:srgbClr val="ffffff"/>
              </a:solidFill>
              <a:latin typeface="Comic Sans MS"/>
            </a:endParaRPr>
          </a:p>
        </p:txBody>
      </p:sp>
      <p:sp>
        <p:nvSpPr>
          <p:cNvPr id="1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Did you have all EIGHT signs of civilization?  </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In you did CONGRATS! Your civilization will survive!</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If not, think about what you needed to add.</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ake a few minutes to EVALUATE your civilization.</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 Chart</a:t>
            </a:r>
            <a:endParaRPr b="0" lang="en-US" sz="4000" spc="-1" strike="noStrike">
              <a:solidFill>
                <a:srgbClr val="ffffff"/>
              </a:solidFill>
              <a:latin typeface="Comic Sans MS"/>
            </a:endParaRPr>
          </a:p>
        </p:txBody>
      </p:sp>
      <p:sp>
        <p:nvSpPr>
          <p:cNvPr id="166" name="PlaceHolder 2"/>
          <p:cNvSpPr>
            <a:spLocks noGrp="1"/>
          </p:cNvSpPr>
          <p:nvPr>
            <p:ph/>
          </p:nvPr>
        </p:nvSpPr>
        <p:spPr>
          <a:xfrm>
            <a:off x="1523880" y="1523880"/>
            <a:ext cx="1905120" cy="60984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nts:</a:t>
            </a:r>
            <a:endParaRPr b="0" lang="en-US" sz="3200" spc="-1" strike="noStrike">
              <a:solidFill>
                <a:srgbClr val="ffffff"/>
              </a:solidFill>
              <a:latin typeface="Comic Sans MS"/>
            </a:endParaRPr>
          </a:p>
        </p:txBody>
      </p:sp>
      <p:sp>
        <p:nvSpPr>
          <p:cNvPr id="167" name=""/>
          <p:cNvSpPr/>
          <p:nvPr/>
        </p:nvSpPr>
        <p:spPr>
          <a:xfrm>
            <a:off x="4800600" y="20574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6022800" y="1600200"/>
            <a:ext cx="13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S:</a:t>
            </a:r>
            <a:endParaRPr b="0" lang="en-US" sz="2400" spc="-1" strike="noStrike">
              <a:solidFill>
                <a:srgbClr val="ffffff"/>
              </a:solidFill>
              <a:latin typeface="Arial"/>
            </a:endParaRPr>
          </a:p>
        </p:txBody>
      </p:sp>
      <p:sp>
        <p:nvSpPr>
          <p:cNvPr id="169" name=""/>
          <p:cNvSpPr/>
          <p:nvPr/>
        </p:nvSpPr>
        <p:spPr>
          <a:xfrm>
            <a:off x="685800" y="1981080"/>
            <a:ext cx="7696080" cy="76320"/>
          </a:xfrm>
          <a:prstGeom prst="rect">
            <a:avLst/>
          </a:prstGeom>
          <a:solidFill>
            <a:srgbClr val="86a1b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70" name=""/>
          <p:cNvSpPr/>
          <p:nvPr/>
        </p:nvSpPr>
        <p:spPr>
          <a:xfrm>
            <a:off x="4495680" y="2057400"/>
            <a:ext cx="152640" cy="4114800"/>
          </a:xfrm>
          <a:prstGeom prst="rect">
            <a:avLst/>
          </a:pr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 name=""/>
          <p:cNvSpPr/>
          <p:nvPr/>
        </p:nvSpPr>
        <p:spPr>
          <a:xfrm>
            <a:off x="609480" y="2438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endParaRPr b="0" lang="en-US" sz="2400" spc="-1" strike="noStrike">
              <a:solidFill>
                <a:srgbClr val="ffffff"/>
              </a:solidFill>
              <a:latin typeface="Arial"/>
            </a:endParaRPr>
          </a:p>
        </p:txBody>
      </p:sp>
      <p:sp>
        <p:nvSpPr>
          <p:cNvPr id="172" name=""/>
          <p:cNvSpPr/>
          <p:nvPr/>
        </p:nvSpPr>
        <p:spPr>
          <a:xfrm>
            <a:off x="5029200" y="25146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1142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ew Civilization Activity</a:t>
            </a:r>
            <a:endParaRPr b="0" lang="en-US" sz="4000" spc="-1" strike="noStrike">
              <a:solidFill>
                <a:srgbClr val="ffffff"/>
              </a:solidFill>
              <a:latin typeface="Comic Sans MS"/>
            </a:endParaRPr>
          </a:p>
        </p:txBody>
      </p:sp>
      <p:sp>
        <p:nvSpPr>
          <p:cNvPr id="174" name="PlaceHolder 2"/>
          <p:cNvSpPr>
            <a:spLocks noGrp="1"/>
          </p:cNvSpPr>
          <p:nvPr>
            <p:ph/>
          </p:nvPr>
        </p:nvSpPr>
        <p:spPr>
          <a:xfrm>
            <a:off x="609480" y="243828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ngratulations!! You have been chosen by NASA to travel to a newly discovered planet and begin a new civilization.  You have about 25,000 people living there with you, but YOU are in charge.  It is your responsibility to decide what the planet will need to become civilized.</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 you are deciding, think about what a group of people needs to live peacefully as a society.  Think about the daily activities, how they live, ways to survive, and systems that need to be in place.  Then create a poster that shows what you believe your civilization on the new planet will need.</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POSTER REQIREMENTS</a:t>
            </a:r>
            <a:endParaRPr b="0" lang="en-US" sz="4000" spc="-1" strike="noStrike">
              <a:solidFill>
                <a:srgbClr val="ffffff"/>
              </a:solidFill>
              <a:latin typeface="Comic Sans MS"/>
            </a:endParaRPr>
          </a:p>
        </p:txBody>
      </p:sp>
      <p:sp>
        <p:nvSpPr>
          <p:cNvPr id="17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POSTER MUST HAVE:</a:t>
            </a:r>
            <a:endParaRPr b="0" lang="en-US" sz="3200" spc="-1" strike="noStrike">
              <a:solidFill>
                <a:srgbClr val="ffffff"/>
              </a:solidFill>
              <a:latin typeface="Comic Sans MS"/>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lvl="3" marL="1752480" indent="-380880">
              <a:buClr>
                <a:srgbClr val="80ff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me of your civilization</a:t>
            </a:r>
            <a:endParaRPr b="0" lang="en-US" sz="2000" spc="-1" strike="noStrike">
              <a:solidFill>
                <a:srgbClr val="ffffff"/>
              </a:solidFill>
              <a:latin typeface="Comic Sans MS"/>
            </a:endParaRPr>
          </a:p>
          <a:p>
            <a:pPr lvl="3" marL="1752480" indent="-380880">
              <a:buClr>
                <a:srgbClr val="80ff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ist of NEEDS with brief explanations as to why it is needed.</a:t>
            </a:r>
            <a:endParaRPr b="0" lang="en-US" sz="2000" spc="-1" strike="noStrike">
              <a:solidFill>
                <a:srgbClr val="ffffff"/>
              </a:solidFill>
              <a:latin typeface="Comic Sans MS"/>
            </a:endParaRPr>
          </a:p>
          <a:p>
            <a:pPr lvl="3" marL="1752480" indent="-380880">
              <a:buClr>
                <a:srgbClr val="80ff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ymbols/Pictures to represent those needs.</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 it means . . . </a:t>
            </a:r>
            <a:endParaRPr b="0" lang="en-US" sz="4000" spc="-1" strike="noStrike">
              <a:solidFill>
                <a:srgbClr val="ffffff"/>
              </a:solidFill>
              <a:latin typeface="Comic Sans MS"/>
            </a:endParaRPr>
          </a:p>
        </p:txBody>
      </p:sp>
      <p:sp>
        <p:nvSpPr>
          <p:cNvPr id="17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nt:  Something that is nice to have, but it is not necessary to surviv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eed:  Something you must have in order to surviv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ants and needs are one thing, civilization is another!</a:t>
            </a:r>
            <a:endParaRPr b="0" lang="en-US" sz="4000" spc="-1" strike="noStrike">
              <a:solidFill>
                <a:srgbClr val="ffffff"/>
              </a:solidFill>
              <a:latin typeface="Comic Sans MS"/>
            </a:endParaRPr>
          </a:p>
        </p:txBody>
      </p:sp>
      <p:sp>
        <p:nvSpPr>
          <p:cNvPr id="18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7000"/>
          </a:bodyPr>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re are EIGHT signs of civilization.</a:t>
            </a:r>
            <a:endParaRPr b="0" lang="en-US" sz="2600" spc="-1" strike="noStrike">
              <a:solidFill>
                <a:srgbClr val="ffffff"/>
              </a:solidFill>
              <a:latin typeface="Comic Sans MS"/>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is means that in order to be considered CIVILIZED a group of people must do these things.</a:t>
            </a:r>
            <a:endParaRPr b="0" lang="en-US" sz="2600" spc="-1" strike="noStrike">
              <a:solidFill>
                <a:srgbClr val="ffffff"/>
              </a:solidFill>
              <a:latin typeface="Comic Sans MS"/>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mic Sans MS"/>
              </a:rPr>
              <a:t>Civilization:</a:t>
            </a:r>
            <a:r>
              <a:rPr b="0" lang="en-US" sz="2600" spc="-1" strike="noStrike">
                <a:solidFill>
                  <a:srgbClr val="ffffff"/>
                </a:solidFill>
                <a:latin typeface="Comic Sans MS"/>
              </a:rPr>
              <a:t>  A society that has achieved a high level of culture, including the development of systems of government, religion and learning.</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990720" y="2133720"/>
            <a:ext cx="7010280" cy="2743200"/>
          </a:xfrm>
          <a:prstGeom prst="ellipse">
            <a:avLst/>
          </a:pr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going to take notes in your BUBBLE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ould write down WHAT IS UNDERLIN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bub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52280" y="457200"/>
            <a:ext cx="8991720" cy="4513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1:</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ultivation (GROWTH) of crop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eans that people could grow crops on their own.  They no longer had to follow food, they brought the food to the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tools such as </a:t>
            </a:r>
            <a:r>
              <a:rPr b="0" lang="en-US" sz="2400" spc="-1" strike="noStrike" u="sng">
                <a:solidFill>
                  <a:srgbClr val="ffffff"/>
                </a:solidFill>
                <a:uFillTx/>
                <a:latin typeface="Arial"/>
              </a:rPr>
              <a:t>RAKES and PLOWS were used for the FIRST TIM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so important that farm tools were used because now people could not only grow their own food, but they could do it at a very fast rate.  The tools helped people to plant and grow food more quick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52280" y="457200"/>
            <a:ext cx="8991720" cy="5640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omestication of Animal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eans that </a:t>
            </a:r>
            <a:r>
              <a:rPr b="0" lang="en-US" sz="2400" spc="-1" strike="noStrike" u="sng">
                <a:solidFill>
                  <a:srgbClr val="ffffff"/>
                </a:solidFill>
                <a:uFillTx/>
                <a:latin typeface="Arial"/>
              </a:rPr>
              <a:t>animals were used for human purpos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eople could eat, sell, or trade animal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s so important because people had tamed animals and no longer had to follow them around for food.  Instead people herded animals and had them available when they were need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2:36:11Z</dcterms:created>
  <dc:creator>Cecil County</dc:creator>
  <dc:description/>
  <dc:language>en-US</dc:language>
  <cp:lastModifiedBy>CCPS</cp:lastModifiedBy>
  <dcterms:modified xsi:type="dcterms:W3CDTF">2009-09-03T13:16:23Z</dcterms:modified>
  <cp:revision>4</cp:revision>
  <dc:subject/>
  <dc:title>Civilization!!!</dc:title>
</cp:coreProperties>
</file>